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DEA9-0CDB-4B73-BFE1-19957D57C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A50A-2345-45D9-A04F-07A3A0E2B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ABE7-2F7B-4E3F-9CA9-7BEB07931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7D09-D51F-4BE7-A84C-D78754348F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CE1AEC-3A4C-4988-830C-D529557D7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520DCD-4541-42E5-A2AA-1FCCC50AA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D5D7CC-B269-40BA-81F9-2595A053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15E44-8B38-46FE-B85C-F906CE275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5B8538-AE16-41AD-AB72-D7A10668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ED633-CBB2-496F-85B9-8D86FCA27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638126-0844-48B5-859C-FDDDFC0E8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4814-A661-40F0-B733-3B2B04160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5D3AB7-528C-44BC-ADB9-724A170D3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F46EB0-7D5F-409F-B827-B85A96053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28C3E9-6B92-4306-8463-A5BEEB6B0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7989D9-A7B6-4F17-B321-A7960385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993B8F-C2BC-4EC5-9485-D0E4CA6D7C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11EF-CB04-4CD0-8CFD-A145A8F31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9918-C16C-4FEC-978D-F713D446F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E588-FF9D-4AE8-9B97-C9356E848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E2DF-C9E7-4CD3-AC83-DC5F5CAAC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02D7-1DB1-4032-A886-4790A5CC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0D85-5F81-418D-A963-1D8313DC5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5ADE1-8AD8-4DB8-8A17-C511B8517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3C18F-E193-4E59-B746-38D157F7BC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0A2B5-FF55-43DC-A815-A8699B9DF31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uiseevents.net/ferrigno/Lou%2520Ferrigno%2520full%2520body%2520photo.JPG&amp;imgrefurl=http://www.cruiseevents.net/ferrigno/brochure.htm&amp;h=2520&amp;w=1299&amp;sz=235&amp;tbnid=kCYn_8fircEJ:&amp;tbnh=150&amp;tbnw=77&amp;hl=en&amp;start=1&amp;prev=/images%3Fq%3Dbody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ahoma"/>
              </a:rPr>
              <a:t>L E T ‘ S  W R I T 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495680" y="21337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ith a focus on M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j0290673[1]"/>
          <p:cNvPicPr/>
          <p:nvPr/>
        </p:nvPicPr>
        <p:blipFill>
          <a:blip r:embed="rId1"/>
          <a:stretch/>
        </p:blipFill>
        <p:spPr>
          <a:xfrm>
            <a:off x="2286000" y="3124080"/>
            <a:ext cx="3949560" cy="2313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5715000" y="6019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s. Mar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Order of An Ess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Introduction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Body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Body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Body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Conclusion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274680" y="835200"/>
            <a:ext cx="835164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paragraph of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inclu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ask a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tate a f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. central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your opinion/what you are going 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. 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reasons that support your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your essay will follow that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. 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3520" y="1905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re are many great books worth taking the time to r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80880" y="2895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he book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The Pearl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, written by John Steinbeck was an excellent boo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57200" y="4038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It is an excellent book because the characters were interesting, there is a lot of action, and the story never becomes bor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55627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no, the main character, suffers many losses throughout the boo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puters have affected many people’s lives in a convenient 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uters are very useful i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hey make school work easier, finding information faster, and help people keep in touch with their fami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s are a great benefit to socie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 your own intro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Ide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paragraph h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he order of para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consist of at least three complete para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838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consists of paragraphs 2,3,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9" descr="Lou%2520Ferrigno%2520full%2520body%2520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225960"/>
            <a:ext cx="18655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son 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always inclu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son tw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always inclu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son thr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always inclu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s of a group of sentences that share a common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5 sent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new paragraph gets ind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paragraph develops ONE i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fth (last) paragraph in an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ver begin with In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5 sent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restate the main points of your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rite your topic sent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 everything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 text to self/society/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 Excellent Essay Uses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c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essay writes about only ONE topic which is your central 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71600" y="14479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the presence of ideas developed through examples and rea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use the reasons stated in your 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use examples/quotes/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how me/convince me you are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5248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the clear order of an es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Diagram 8"/>
          <p:cNvGrpSpPr/>
          <p:nvPr/>
        </p:nvGrpSpPr>
        <p:grpSpPr>
          <a:xfrm>
            <a:off x="2617920" y="2270160"/>
            <a:ext cx="3908160" cy="3384360"/>
            <a:chOff x="2617920" y="2270160"/>
            <a:chExt cx="3908160" cy="3384360"/>
          </a:xfrm>
        </p:grpSpPr>
        <p:sp>
          <p:nvSpPr>
            <p:cNvPr id="144" name="_s1028"/>
            <p:cNvSpPr/>
            <p:nvPr/>
          </p:nvSpPr>
          <p:spPr>
            <a:xfrm flipV="1">
              <a:off x="4181400" y="2270160"/>
              <a:ext cx="781200" cy="676080"/>
            </a:xfrm>
            <a:custGeom>
              <a:avLst/>
              <a:gdLst>
                <a:gd name="textAreaLeft" fmla="*/ 280080 w 781200"/>
                <a:gd name="textAreaRight" fmla="*/ 501120 w 781200"/>
                <a:gd name="textAreaTop" fmla="*/ 242640 h 676080"/>
                <a:gd name="textAreaBottom" fmla="*/ 433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Introduc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29"/>
            <p:cNvSpPr/>
            <p:nvPr/>
          </p:nvSpPr>
          <p:spPr>
            <a:xfrm flipV="1">
              <a:off x="3790800" y="2945520"/>
              <a:ext cx="1562400" cy="677880"/>
            </a:xfrm>
            <a:custGeom>
              <a:avLst/>
              <a:gdLst>
                <a:gd name="textAreaLeft" fmla="*/ 343440 w 1562400"/>
                <a:gd name="textAreaRight" fmla="*/ 1218960 w 1562400"/>
                <a:gd name="textAreaTop" fmla="*/ 149040 h 677880"/>
                <a:gd name="textAreaBottom" fmla="*/ 5288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d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ragraph 2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0"/>
            <p:cNvSpPr/>
            <p:nvPr/>
          </p:nvSpPr>
          <p:spPr>
            <a:xfrm flipV="1">
              <a:off x="3398760" y="3623400"/>
              <a:ext cx="2346480" cy="676440"/>
            </a:xfrm>
            <a:custGeom>
              <a:avLst/>
              <a:gdLst>
                <a:gd name="textAreaLeft" fmla="*/ 407160 w 2346480"/>
                <a:gd name="textAreaRight" fmla="*/ 1939320 w 2346480"/>
                <a:gd name="textAreaTop" fmla="*/ 117360 h 676440"/>
                <a:gd name="textAreaBottom" fmla="*/ 55908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d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ragraph 3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1"/>
            <p:cNvSpPr/>
            <p:nvPr/>
          </p:nvSpPr>
          <p:spPr>
            <a:xfrm flipV="1">
              <a:off x="3008160" y="4299840"/>
              <a:ext cx="3127680" cy="677880"/>
            </a:xfrm>
            <a:custGeom>
              <a:avLst/>
              <a:gdLst>
                <a:gd name="textAreaLeft" fmla="*/ 470520 w 3127680"/>
                <a:gd name="textAreaRight" fmla="*/ 2657160 w 3127680"/>
                <a:gd name="textAreaTop" fmla="*/ 101880 h 677880"/>
                <a:gd name="textAreaBottom" fmla="*/ 57600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dy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ragraph 4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32"/>
            <p:cNvSpPr/>
            <p:nvPr/>
          </p:nvSpPr>
          <p:spPr>
            <a:xfrm flipV="1">
              <a:off x="2617920" y="4978440"/>
              <a:ext cx="3908160" cy="676080"/>
            </a:xfrm>
            <a:custGeom>
              <a:avLst/>
              <a:gdLst>
                <a:gd name="textAreaLeft" fmla="*/ 533520 w 3908160"/>
                <a:gd name="textAreaRight" fmla="*/ 3374640 w 3908160"/>
                <a:gd name="textAreaTop" fmla="*/ 92160 h 676080"/>
                <a:gd name="textAreaBottom" fmla="*/ 58392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onclus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your own unique writing v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se a variety of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se similes and metaphors to describe some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do not repeat your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do not write like you talk or text or tw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Do not us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an ess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like MTV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TV is g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love piz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zza tastes g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think school unifor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 a dumb ide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ool uniforms are 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mb ide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Do not us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yo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an ess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you ever read suc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wonderful book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has never bee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ch a wonderfu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ok as this 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you eve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enced lo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people hav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enced lo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19320" y="1447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grammar, spelling, and mechanics are all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Do not 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this ess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essay will discuss why summer is the best season of 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er is the best s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Do not 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conclu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onclusion, winter is the best s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 is the best s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THEIR, THEY’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Know the difference betwee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heir, there, they'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ir-Is that their book on the flo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possessive/ow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-Are you going over the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shows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're-They're going to the movies tonigh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they 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R, YOU’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Know the difference betwee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your and you'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r-Is that your book on the floor in the corn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possessive/show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're-You're a wonderful perso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you 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Do not use slang in an es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onna,gu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ain'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ecu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 R 2 k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Do not begin a sentence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d, because, s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 Check your spel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. No cont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Diagram 4" descr=""/>
          <p:cNvPicPr/>
          <p:nvPr/>
        </p:nvPicPr>
        <p:blipFill>
          <a:blip r:embed="rId1"/>
          <a:stretch/>
        </p:blipFill>
        <p:spPr>
          <a:xfrm>
            <a:off x="365040" y="1365120"/>
            <a:ext cx="82612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ing Promp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about inventions that have affected our liv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an invention and write to explain why this invention has been good or bad for socie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0" y="1523880"/>
            <a:ext cx="914400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 L 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819520" y="4495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Modern Language Assoc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Language Assoc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reate the "writing rules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s that everyone is graded on the same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LA IS USED IN ALL TYPES OF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literary analysis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research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character analysis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compare/contrast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persuasive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informative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ge 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ple goes in left hand cor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ver she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words are double spa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tion includes last name and pag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space the rest of the essay after the ti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467120" y="617220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0" y="762120"/>
            <a:ext cx="4114800" cy="556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648320" y="990720"/>
            <a:ext cx="4038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tin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a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e essay is d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tle of your Ess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ge Tw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space entire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in 12 point fo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imes New Roman 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add extra spaces in between paragrap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48320" y="1219320"/>
            <a:ext cx="4038480" cy="5257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800600" y="1523880"/>
            <a:ext cx="39625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tin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say goes here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ge Th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Cited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5 spa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1066680"/>
            <a:ext cx="4114800" cy="57913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76920" y="14479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tin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 C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 Wri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-spa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fo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margin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le is put in the left hand corner of the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 no cover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no p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7400" y="1447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the whole essay 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 Wri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, teacher, class, date essay is due  placed in the upper left hand cor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always use at least three quo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“quote quote” (Shakespeare 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always have a work cited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Last name, First name. Title of Book.  Where: Who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 titles get italic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stories, internet articles, movies get quotation marks "   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 Wri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double spaces after a period, question mark, exclamation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ne space after a co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forget the header/pagination on far right s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your own title al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be cre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title of your essay does not g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lined, bolded, italicized, or quot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s cent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o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laced in the body of the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one quote per paragrap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3 quotes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quotes are never placed in 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on or the conclusion of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otes help to prove your thesis (opin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"quote quote quote quote" (Author's las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space page numb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"The sky is blue" (Lowry 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"It was a dark and stormy night in 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ve" (King 96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j0338828[1]"/>
          <p:cNvPicPr/>
          <p:nvPr/>
        </p:nvPicPr>
        <p:blipFill>
          <a:blip r:embed="rId1"/>
          <a:stretch/>
        </p:blipFill>
        <p:spPr>
          <a:xfrm>
            <a:off x="4495680" y="0"/>
            <a:ext cx="36291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pic Sent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entence in each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s exactly what the paragraph will be ab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s a statement/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o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a lead-in before the quote using either a comma or a co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setting was beautifully described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"the day was warm and the sun shone hues of pink, blue, and orange while the trees were alive with green" (Liss 98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character named Brad had a lot of attitude when talking to his teach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"So teach, you need to lighten up.  No homework tonight.  Even so, I won't do it" (Polks 345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j0338828[1]"/>
          <p:cNvPicPr/>
          <p:nvPr/>
        </p:nvPicPr>
        <p:blipFill>
          <a:blip r:embed="rId1"/>
          <a:stretch/>
        </p:blipFill>
        <p:spPr>
          <a:xfrm>
            <a:off x="5486400" y="0"/>
            <a:ext cx="32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 page of your essay (gets its own p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s get underlined (this also goes for your entire ess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Cited page is 1.5 spa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Cited is centered on the top of the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does not get underl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does not get special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more than one book, the books are arranged in alphabetical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bib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j0404059[1]"/>
          <p:cNvPicPr/>
          <p:nvPr/>
        </p:nvPicPr>
        <p:blipFill>
          <a:blip r:embed="rId1"/>
          <a:stretch/>
        </p:blipFill>
        <p:spPr>
          <a:xfrm>
            <a:off x="6248520" y="0"/>
            <a:ext cx="18223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name, First name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itle of Book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: Who,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, Stephan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Shining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York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 Books, 197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6" descr="j0404059[1]"/>
          <p:cNvPicPr/>
          <p:nvPr/>
        </p:nvPicPr>
        <p:blipFill>
          <a:blip r:embed="rId1"/>
          <a:stretch/>
        </p:blipFill>
        <p:spPr>
          <a:xfrm>
            <a:off x="6019920" y="0"/>
            <a:ext cx="18223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ry Analysis Ess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terary analysis essay breaks down important literary aspects about a bo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details help other people to understand the work as a whol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ic sen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ntral ide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h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terary element which your essay will focus 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Mice and M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written by John Steinbeck, focused on the theme of friendshi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Steinbeck, in his novel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Mice and M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used the setting to promote action in his book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Your supporting rea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se reasons will be the order of your ess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index card.jp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410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Topic Sente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Central Ide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Thesis Sente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End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index card.jpg"/>
          <p:cNvPicPr/>
          <p:nvPr/>
        </p:nvPicPr>
        <p:blipFill>
          <a:blip r:embed="rId1"/>
          <a:stretch/>
        </p:blipFill>
        <p:spPr>
          <a:xfrm>
            <a:off x="152280" y="609480"/>
            <a:ext cx="8458200" cy="6019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Body 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Reason 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Your example from the novel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Lead-i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Quote: “ 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 “ (Steinbeck 78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tat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ence after the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s the who, what, why, how, w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er, detailed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ples or Quot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s your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your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you know about the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 give a reason/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use a 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s this paragraph with the n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j0116362[1]"/>
          <p:cNvPicPr/>
          <p:nvPr/>
        </p:nvPicPr>
        <p:blipFill>
          <a:blip r:embed="rId1"/>
          <a:stretch/>
        </p:blipFill>
        <p:spPr>
          <a:xfrm>
            <a:off x="1447920" y="4191120"/>
            <a:ext cx="5715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ple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57200" y="1295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he ocean is beautif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18288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he ocean is beautiful because of the clear blue colo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57200" y="281952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 Maryland, the ocean is so clear you can see all the multi-colored fish swimming arou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Henry Beston believes that one of the greatest sounds is “the sound of outer ocean on a beach” (Beston 32)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52578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re are many things that are also beautiful like the ocean, such as butterf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 your own paragraph 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2:28:58Z</dcterms:created>
  <dc:creator>ASD</dc:creator>
  <dc:description/>
  <dc:language>en-US</dc:language>
  <cp:lastModifiedBy>Teacher</cp:lastModifiedBy>
  <dcterms:modified xsi:type="dcterms:W3CDTF">2010-06-15T14:00:49Z</dcterms:modified>
  <cp:revision>16</cp:revision>
  <dc:subject/>
  <dc:title>L E T ‘ S  W R I T E</dc:title>
</cp:coreProperties>
</file>